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E8270-9584-44D7-8A59-B2C6719FA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6D6D6-C0C2-4C0B-BCA0-4D70E55F6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D7407-967E-446A-9EFD-14A253867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F4C94-424D-4A85-95BF-A86DFC748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4C5D9-5B28-4E4F-B311-DF79FC345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F1F89-710D-44C3-8DEA-731931360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0F439-E9BF-459A-82B6-1C12E8100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5AB83-D4EE-472A-81E4-27FE86947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7D9E1-1FB6-4016-9FB7-FFD853490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C42AA-C280-4FA0-B01F-A72C0EC1C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9036A-4ABA-4A17-8942-728F80FEC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ED537-513F-410A-978C-F8534133B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E83E-CF4B-4371-9FAE-CD57D8EF7F2E}"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5920"/>
            <a:ext cx="7772400" cy="47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Farming Type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Distribution</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ctors mentioned in the previous section all contribute to the pattern of farming seen in both the UK and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p below shows the very general pattern of farm types from around th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examples used in this section relate to </a:t>
            </a:r>
            <a:r>
              <a:rPr b="1" lang="en-US" sz="3200" spc="-1" strike="noStrike">
                <a:solidFill>
                  <a:srgbClr val="000000"/>
                </a:solidFill>
                <a:latin typeface="Calibri"/>
              </a:rPr>
              <a:t>farming types</a:t>
            </a:r>
            <a:r>
              <a:rPr b="0" lang="en-US" sz="3200" spc="-1" strike="noStrike">
                <a:solidFill>
                  <a:srgbClr val="000000"/>
                </a:solidFill>
                <a:latin typeface="Calibri"/>
              </a:rPr>
              <a:t> found in many world areas shown on the m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ommercial Farming</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olves farming for a profit. The farmer is growing crops or rearing animals to sell for as much money as possible. </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se farms can be arable (just growing crops), pastoral (just rearing animals) or mixed (both arable and pastoral). </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reasingly farms are becoming more mixed</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due to the impact of farming subsidies and regulations. </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of the farming in MEDC's is commercial farming of one type or another.</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rable farms of East Anglia are a good example of commercial farming, as are the cereal farms of the central United States and the Canadian Prairi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Intensive Farming</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ly take up a fairly small area of land, but aim to have a very high output, through massive inputs of capital and labo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farms use machines and new technologies to become as efficient and cost-effective as pos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nsive agriculture can be seen in many places around the world, such as the Canterbury Plains of New Zealand, pig farming in Denmark and rice cultivation in the countries of South East Asi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use technology appropriate to their country to enable them to get the highest yields from their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xtensive Farming</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is the direct opposite of intensive farming.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farms are large in comparison to the money injected into them or the labour used.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attle ranches of central Australia area good example of extensive agriculture, where often only a few farm workers are responsible for thousands of acres of farmland.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other example of extensive farming can be seen in the massive cattle ranches of Brazil.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se involve clearing vast areas of rainforest (the trees are often burnt rather than chopped down and sold) to make way for the cattle ranch.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attle quickly eat the remaining vegetation and begin to cause massive problems of soil erosion.</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ubsistence Farming</a:t>
            </a:r>
            <a:endParaRPr b="0" lang="en-US" sz="4400" spc="-1" strike="noStrike">
              <a:solidFill>
                <a:srgbClr val="000000"/>
              </a:solidFill>
              <a:latin typeface="Calibri"/>
            </a:endParaRPr>
          </a:p>
        </p:txBody>
      </p:sp>
      <p:sp>
        <p:nvSpPr>
          <p:cNvPr id="51" name=""/>
          <p:cNvSpPr txBox="1"/>
          <p:nvPr/>
        </p:nvSpPr>
        <p:spPr>
          <a:xfrm>
            <a:off x="456840" y="1599840"/>
            <a:ext cx="8435880" cy="52578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Only produce enough to feed themselves and their family, without having any more to sell for profi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is is the most common form of farming in LEDC'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ome of them are nomadic, meaning that they move around the country using a piece of land for a while and then moving on.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is type of subsistence farming is also called </a:t>
            </a:r>
            <a:r>
              <a:rPr b="1" lang="en-US" sz="2300" spc="-1" strike="noStrike">
                <a:solidFill>
                  <a:srgbClr val="000000"/>
                </a:solidFill>
                <a:latin typeface="Calibri"/>
              </a:rPr>
              <a:t>shifting cultivation.</a:t>
            </a:r>
            <a:r>
              <a:rPr b="0" lang="en-US" sz="2300" spc="-1" strike="noStrike">
                <a:solidFill>
                  <a:srgbClr val="000000"/>
                </a:solidFill>
                <a:latin typeface="Calibri"/>
              </a:rPr>
              <a:t>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traditional tribes of the Amazon rainforest use system of shifting cultivation.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y chop down a clearing in the trees and use it for a few years before moving on and allowing the soil and vegetation to recover.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or thousands of years this form of agriculture has allowed the people to live, without the rainforest being unduly damaged.</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ypes Of Farming</a:t>
            </a:r>
            <a:endParaRPr b="0" lang="en-US" sz="4400" spc="-1" strike="noStrike">
              <a:solidFill>
                <a:srgbClr val="000000"/>
              </a:solidFill>
              <a:latin typeface="Calibri"/>
            </a:endParaRPr>
          </a:p>
        </p:txBody>
      </p:sp>
      <p:graphicFrame>
        <p:nvGraphicFramePr>
          <p:cNvPr id="53" name=""/>
          <p:cNvGraphicFramePr/>
          <p:nvPr/>
        </p:nvGraphicFramePr>
        <p:xfrm>
          <a:off x="457200" y="1600200"/>
          <a:ext cx="8229600" cy="3844800"/>
        </p:xfrm>
        <a:graphic>
          <a:graphicData uri="http://schemas.openxmlformats.org/drawingml/2006/table">
            <a:tbl>
              <a:tblPr/>
              <a:tblGrid>
                <a:gridCol w="2743200"/>
                <a:gridCol w="2743200"/>
                <a:gridCol w="2743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Intensiv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Extensiv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ommerci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g farming in Denmark. Cereal farming on the Canterbury Plains, New Zealand. East Anglian cereal farming and market gardening. Market gardening in the Netherland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real farming on the Canadian Prairies and central United States. Ranches in central Australia, the Brazilian rainforest and the South American Pamp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bsiste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ce cultivation in South-East Asia, especially the Ganges valley. Terraced padi fields of Indones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ifting cultivation in the Amazon rainforest. Nomadic pasturalism in central Afr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4:16:36Z</dcterms:created>
  <dc:creator>Dell_02</dc:creator>
  <dc:description/>
  <dc:language>en-US</dc:language>
  <cp:lastModifiedBy>Dell_02</cp:lastModifiedBy>
  <dcterms:modified xsi:type="dcterms:W3CDTF">2011-01-27T16:26:10Z</dcterms:modified>
  <cp:revision>4</cp:revision>
  <dc:subject/>
  <dc:title>Farming Types</dc:title>
</cp:coreProperties>
</file>